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6A77-5602-4210-83C9-23035FF6EDA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F105-A71B-46E6-BFD3-B3552278E13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E444-3FBB-4ECD-81E7-115176BC899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E039-1DBE-4D1E-AFFE-DD0EFC92A04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3170-177F-4F0A-B58C-883FB5E3A30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17CB-DC2B-49BA-99EC-835C7123942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2901-1F69-4176-A844-E179486173C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13A6-7D79-4471-9204-4CCD8E13688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F2EC-35E3-4EF7-9C9C-1BC8D4E15E2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980E-7AD2-41EF-8551-40FF4E23CB4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0CF-DB88-4457-B88B-70C12AD4DB7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1EE7-B9A4-4878-8C0B-62B43E21A1D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13B9-0689-4664-9E8D-2971AEB6CE7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C921-E745-4536-A328-2585D6FDE88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7EC6-0C4C-4993-B15D-83A5CF9519F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F9B-4EBE-4659-AD7C-68F5C92DDC9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7809-E513-4F24-B648-E0CF689287B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DC7D-2F29-4541-81CF-E8C2C610795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9537-5588-4875-BB3A-D8E7FA1949A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1DE5-5906-49C6-8A47-1DD55E7B26D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31E0-37A5-4C5D-B8E4-C5C9123FA87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B748-1A7B-49F9-96F3-5CF9CB22090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22F1-AEEB-4791-8F28-C60E3530909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934-2180-4DBD-9967-18E03CEF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9D6-9A87-46E6-9A2D-590641C2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89D-4671-43AD-B852-493EF557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B47-BE20-41E0-8345-A9B4423C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2E15-D437-4468-BCFB-965B13B3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A07E-0DEF-4375-97A0-8E856BFE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4BC5-868F-4154-B543-081B9B26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724D-37EE-4B62-AAA1-929E4F3C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D823-C262-498D-B8ED-D0098D5B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FCE7-3BA3-4AFB-9DF6-CE81497D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655A-E1C4-4528-AC1A-400438FD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E75-1B0A-4831-AA71-5E61A729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1DCB-9D32-4439-BF8F-FE84DA9F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534D-C915-4F4B-8F16-EADC408B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7D28-5442-4969-BDCB-DD4FFDC2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045E-5DE1-430E-8E6F-0C8EDBC6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7C36-2681-41AB-889B-13848C63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CE495-F24A-4628-AB4F-F46B5A0C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184C5-91C2-44C0-999B-3D819AA4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D7083-4BC2-43FC-BAFE-D358F5AB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30895-C62C-4E32-8DE1-466B8755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F2FC7-CCCA-47AC-AAF5-8B7CEEF0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804-612B-4B36-8788-D502F983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54201-71CD-4E8F-A296-1D37D0AF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C35B3-8AA0-4506-810C-E779CA19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623B3-0266-40E5-AE6C-38D58339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0962A-4BA5-48A2-AD98-877E17F1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ABA28-E9EE-4974-9398-74C5C885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76235-9486-4E83-B0B3-9C4EE547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4766B-4035-40B6-A122-4EDF1AE1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BE4F1-2891-440C-8A77-5363F06A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B0F2-1621-49EC-94DA-4CA05062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6EFE4-7505-4DC3-B7AC-9A698ABE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AA5-0AD4-49CA-AFA7-6A95345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C4BB-B694-4661-82BD-0118782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8171-ED3A-4B8A-ADCF-7EDDADAB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E1021-DE2E-4FB3-A4D3-F2E64FC1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D35C-3359-437E-AD55-EF3DE24C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37B9-D532-405A-BE9D-BB8130BE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B812-AD19-4243-9446-3186E6B5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04A7B-2E67-4271-8EFA-A95C3C2B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46E3F-773B-4FCB-B339-947F8AD5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E32B-948D-4889-8DE8-54653470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46A-AAC9-44C9-A8E1-163BDE6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2A4-E518-40BE-9FB6-B9E1AE77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3B4-ABC8-4B2E-84F2-5F5DAC30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0C6-43DE-44EE-8C90-ADABBBD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4D8-7FAE-425D-89D6-CDC00470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BCA-001A-40BC-942E-46443AB6148D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FD6B-48E0-4877-9DEB-DF8359D4D43C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63CD-2514-4883-9CE4-E276CC770484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950A-7A60-4A45-9BB6-2991A7078A2D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현대 기술은 모두 첨단 기술인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제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5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2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ttp://www.sebong.co.kr/attach/1/1226325503.jpg"/>
          <p:cNvPicPr/>
          <p:nvPr/>
        </p:nvPicPr>
        <p:blipFill>
          <a:blip r:embed="rId2"/>
          <a:stretch/>
        </p:blipFill>
        <p:spPr>
          <a:xfrm>
            <a:off x="-1116000" y="-6480"/>
            <a:ext cx="10260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파일:Inside of a tin platted can.jpg"/>
          <p:cNvPicPr/>
          <p:nvPr/>
        </p:nvPicPr>
        <p:blipFill>
          <a:blip r:embed="rId2"/>
          <a:stretch/>
        </p:blipFill>
        <p:spPr>
          <a:xfrm>
            <a:off x="0" y="-9360"/>
            <a:ext cx="9156600" cy="6867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6756120" y="90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Georgia"/>
              </a:rPr>
              <a:t>양철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ojsfile.ohmynews.com/STD_IMG_FILE/2010/0303/IE001171857_ST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6881760" y="566100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Georgia"/>
              </a:rPr>
              <a:t>석면 슬레이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내용 개체 틀 3" descr="판자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517320" y="54936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Bidonville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in Morocco (2007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7" name="내용 개체 틀 6" descr="이바단의 지붕들, 나이지리아.jpg"/>
          <p:cNvPicPr/>
          <p:nvPr/>
        </p:nvPicPr>
        <p:blipFill>
          <a:blip r:embed="rId1"/>
          <a:stretch/>
        </p:blipFill>
        <p:spPr>
          <a:xfrm>
            <a:off x="0" y="-1179360"/>
            <a:ext cx="9144000" cy="9123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www.corbisimages.com/Images/spacer.gif"/>
          <p:cNvPicPr/>
          <p:nvPr/>
        </p:nvPicPr>
        <p:blipFill>
          <a:blip r:embed="rId2"/>
          <a:stretch/>
        </p:blipFill>
        <p:spPr>
          <a:xfrm>
            <a:off x="1681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www.corbisimages.com/Images/spacer.gif"/>
          <p:cNvPicPr/>
          <p:nvPr/>
        </p:nvPicPr>
        <p:blipFill>
          <a:blip r:embed="rId3"/>
          <a:stretch/>
        </p:blipFill>
        <p:spPr>
          <a:xfrm>
            <a:off x="1681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ttp://www.corbisimages.com/Images/spacer.gif"/>
          <p:cNvPicPr/>
          <p:nvPr/>
        </p:nvPicPr>
        <p:blipFill>
          <a:blip r:embed="rId4"/>
          <a:stretch/>
        </p:blipFill>
        <p:spPr>
          <a:xfrm>
            <a:off x="168120" y="-13644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5834160" y="5493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Ibadan, Nigeri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http://www.printplusng.com/images/1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1116000" y="587700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Roof Tops at Ibadan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(2007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크리올 기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creol technology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판자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력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전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력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토력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긴꼬리보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동차 굴대와 핸들을 이용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당나귀 수레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중국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뒷마당 철강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전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력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동차의 발명 시기는 거의 비슷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전거의 사용 증가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중반 이후의 현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부유한 세계의 기술보다 시간상 뒤쳐진 기술 아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그림:대학생 리포트-베이징의 발, 자전거-1.jpg"/>
          <p:cNvPicPr/>
          <p:nvPr/>
        </p:nvPicPr>
        <p:blipFill>
          <a:blip r:embed="rId2"/>
          <a:stretch/>
        </p:blipFill>
        <p:spPr>
          <a:xfrm>
            <a:off x="324000" y="765000"/>
            <a:ext cx="82566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ttp://fs.textcube.com/blog/6/69470/attach/XMoHGdndaC.jp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308520" y="616572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ycl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, Vietna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ttp://img.blog.yahoo.co.kr/ybi/1/70/0f/sturmgechutz/folder/86/img_86_2739_5?126985363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4" name="내용 개체 틀 3" descr="2443128544_4389b44aa3_o.jpg"/>
          <p:cNvPicPr/>
          <p:nvPr/>
        </p:nvPicPr>
        <p:blipFill>
          <a:blip r:embed="rId1"/>
          <a:stretch/>
        </p:blipFill>
        <p:spPr>
          <a:xfrm>
            <a:off x="0" y="0"/>
            <a:ext cx="960444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2268360" y="6165720"/>
            <a:ext cx="6875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-ABKZ DH PussMoth and camel, desert, Palestine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(2008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원본 크기의 사진을 보려면 클릭하세요"/>
          <p:cNvPicPr/>
          <p:nvPr/>
        </p:nvPicPr>
        <p:blipFill>
          <a:blip r:embed="rId2"/>
          <a:stretch/>
        </p:blipFill>
        <p:spPr>
          <a:xfrm>
            <a:off x="0" y="1773360"/>
            <a:ext cx="916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http://www.hobotraveler.com/208-asia/207-034-long-tail-boat-thailand-isla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687600" y="333360"/>
            <a:ext cx="38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Long-Tail Boat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in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Thai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크리올 기술과 근대화의 문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크리올 기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규모 산업의 생산품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동차 엔진과 굴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전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멘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골함석 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 지역의 소규모 산업 결합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난한 도시의 성장은 부유한 세계에서 온 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외관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구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사용의 증가와 궤를 같이 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적으로 뒤쳐진 지역이 이미 근대를 달성한 서구를 추격하는 것으로서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근대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개념 성립하기 어려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한국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근대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=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발명과 혁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행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903)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핵발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945)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터넷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965)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역사를 발명의 연대기로 축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혁신 중심의 역사는 오늘날 중요하다고 여기는 몇몇  기술이 발명되고 개발되던 초기 단계에만 초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기술들의 중요성에 대한 비판적 검토 부족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난한 나라의 기술에 대해서는 상대적으로 소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38086"/>
                </a:solidFill>
                <a:latin typeface="Georgia"/>
              </a:rPr>
              <a:t>과연 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20</a:t>
            </a:r>
            <a:r>
              <a:rPr b="0" lang="ko-KR" sz="2800" spc="-1" strike="noStrike">
                <a:solidFill>
                  <a:srgbClr val="438086"/>
                </a:solidFill>
                <a:latin typeface="Georgia"/>
              </a:rPr>
              <a:t>세기 가장 중요한 기술은 무엇이었는가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용 중인 기술들에 대한 주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옛 것과 새 것의 공존으로서의 현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에 사용된 기술에는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전기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자동차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우주선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핵발전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인터넷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피임약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뿐 아니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인력거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콘돔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말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재봉틀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물레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초경합금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공구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자전거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골함석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시멘트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석면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, DDT, </a:t>
            </a:r>
            <a:r>
              <a:rPr b="1" lang="ko-KR" sz="2600" spc="-1" strike="noStrike">
                <a:solidFill>
                  <a:srgbClr val="438086"/>
                </a:solidFill>
                <a:latin typeface="Georgia"/>
              </a:rPr>
              <a:t>전기톱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등도 포함되어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 기술의 다양한 모습을 간직한 가난한 지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난한 나라의 도시의 현재 모습은 부유한 도시의 과거와도 현재와도 같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확산과 보급의 역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이 등장했다고 옛 기술이 금방 사라지는 것은 아니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히려 증가할 수도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은 혁신이 일어난 직후 매우 금방 세계 곳곳에 나타나는 반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의 보급률은 지역별 소득에 의해 결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에 따른 경제 개발은 과거 서구가 사용했던 기술을 복제할 수 있도록 해주긴 하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같은 경제 수준이 같은 기술의 사용을 보장하지는 않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서구의 예전 경제수준에 도달한 지역들이 서구의 과거 모습을 복제하고 있지는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 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말이 가장 많이 사용된 시대는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송을 위한 말의 사용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기 초에 정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제개발과 도시화는 더 많은 수의 마차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철도와 운하의 교차점에 지어진 수많은 마구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업을 위한 말의 사용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기 초중반에 정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핀란드의 말 개체수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95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대에 정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초 영미 경작지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/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은 말 유지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2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차 세계 대전에서 말의 사용은 꾸준히 증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대전에 필요한 엄청난 양의 물량 수송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히 철도의 종점에서 전선까지 운반하는 데 이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가난한 도시의 판자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0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경 세계 최대의 도시는 대부분 가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브라질 상파울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멕시코시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필리핀 마닐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도 뭄바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도 델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파키스탄 카라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도네시아 자카르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나이지리아 라고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방글라데시 다카 등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말의 도시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차나 방적기의 도시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아니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거대 전기나 화학 산업의 도시도 아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거대 도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급속한 도시화의 동력은 다양한 판자촌의 성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파벨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센타미엔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푸에블로 요벤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참하지만 엄청난 규모의 유지능력을 갖춘 곳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9640" y="836640"/>
          <a:ext cx="8136000" cy="5626080"/>
        </p:xfrm>
        <a:graphic>
          <a:graphicData uri="http://schemas.openxmlformats.org/drawingml/2006/table">
            <a:tbl>
              <a:tblPr/>
              <a:tblGrid>
                <a:gridCol w="1355760"/>
                <a:gridCol w="2028960"/>
                <a:gridCol w="1295280"/>
                <a:gridCol w="1081080"/>
                <a:gridCol w="1224000"/>
                <a:gridCol w="1150920"/>
              </a:tblGrid>
              <a:tr h="380880"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국가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도시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인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면적</a:t>
                      </a:r>
                      <a:r>
                        <a:rPr b="1" lang="en-US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(k</a:t>
                      </a:r>
                      <a:r>
                        <a:rPr b="1" lang="en-US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㎡</a:t>
                      </a:r>
                      <a:r>
                        <a:rPr b="1" lang="en-US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인구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816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5b5b5b"/>
                          </a:solidFill>
                          <a:latin typeface="돋움"/>
                        </a:rPr>
                        <a:t>기준년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16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88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kyo-Yokoh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2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ew York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8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o Pa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7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th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oul-Inch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xico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4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saka-Kobe-Ky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42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illi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7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umbai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3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9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elhi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3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aka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2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ig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4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8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lkota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7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gy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>
                      <a:noFill/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2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 w="4320">
                      <a:solidFill>
                        <a:srgbClr val="d1d1d1"/>
                      </a:solidFill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800" rIns="36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19800" marR="36000">
                    <a:lnL w="4320">
                      <a:solidFill>
                        <a:srgbClr val="d1d1d1"/>
                      </a:solidFill>
                    </a:lnL>
                    <a:lnR>
                      <a:noFill/>
                    </a:lnR>
                    <a:lnT w="4320">
                      <a:solidFill>
                        <a:srgbClr val="dbdbdb"/>
                      </a:solidFill>
                    </a:lnT>
                    <a:lnB w="4320">
                      <a:solidFill>
                        <a:srgbClr val="dbdbd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판자촌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재료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재료의 이름을 딴 판자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로코의 비돈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랍의 무둔 사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더반의 이미존돌로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기 전세계적으로 가장 중요했던 재료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함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연도금철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양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석도금철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석면 시멘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슬레이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 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값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벼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간편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긴 수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단열 성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석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7:21:55Z</dcterms:created>
  <dc:creator>zolaist</dc:creator>
  <dc:description/>
  <dc:language>en-US</dc:language>
  <cp:lastModifiedBy>zolaist</cp:lastModifiedBy>
  <dcterms:modified xsi:type="dcterms:W3CDTF">2010-12-08T06:57:05Z</dcterms:modified>
  <cp:revision>25</cp:revision>
  <dc:subject/>
  <dc:title>현대 기술은 모두 첨단 기술인가?</dc:title>
</cp:coreProperties>
</file>